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027A-66BF-4294-9429-DF0051DDA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90359-1128-4144-95B2-3FAF1551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FEDE9-69CE-4C8D-B981-86B5023F9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0DBA4-C121-4794-8BF1-093363B5F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36090-BA94-4174-B351-6F3C70C2A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301CA-A5E1-4FFD-8F8F-B4AC70DDE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CCC47-BD39-4937-B724-E7D31285D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F9AE7-D812-4C37-A51E-3844C7D2B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E10A7-9E35-4211-9499-45E349424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648CD-A1AA-44B2-B374-14F54AEB8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1EBB-2D9A-4E8C-A47C-9314C3462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E551-B4BF-4C22-8795-B7A3DB89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F1A98-9802-4B6C-967A-F914BA2F3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EFED-2C42-4E77-B75D-9129D64F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F4A26-4138-4190-8F67-3568854D6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713E3-604E-4E5C-9E69-61A17C3DC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B00AD-8439-45FB-BF80-6E6CBA98F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DC20-F74C-4C0A-A505-24DEE7CAB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468C-6B4F-423E-9FBF-57B939BF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4795A-86E0-495E-9F10-7DB6B5CD3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0AAE-D7D3-4BF2-A9FC-12B900796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1B04-B13E-48A6-A644-E402A24B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C86B-1B61-4E7B-8E25-14FAF491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2C0D-675B-43AF-9E04-7216B0A31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1F334-CA4E-4A50-8490-FFD6EBEE446C}" type="datetime">
              <a:rPr b="0" lang="en-US" sz="1200" spc="-1" strike="noStrike">
                <a:solidFill>
                  <a:srgbClr val="ffffff"/>
                </a:solidFill>
                <a:latin typeface="News Gothic MT"/>
              </a:rPr>
              <a:t>07/30/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4AE38-96B4-4C5E-9ED8-E48380C6CC41}"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43D8E-ED95-437F-ACE3-361F82733662}" type="datetime">
              <a:rPr b="0" lang="en-US" sz="1200" spc="-1" strike="noStrike">
                <a:solidFill>
                  <a:srgbClr val="ffffff"/>
                </a:solidFill>
                <a:latin typeface="News Gothic MT"/>
              </a:rPr>
              <a:t>07/30/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97F59-2A54-4E51-A578-07AA9DCBB270}"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ed.org/thinkers/gardner.htm" TargetMode="External"/><Relationship Id="rId3" Type="http://schemas.openxmlformats.org/officeDocument/2006/relationships/hyperlink" Target="http://www.learning-theories.com/vygotskys-social-learning-theory.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0" y="3352680"/>
            <a:ext cx="84168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c7c9f"/>
                </a:solidFill>
                <a:latin typeface="News Gothic MT"/>
              </a:rPr>
              <a:t>To Act, Or Not To Act?</a:t>
            </a:r>
            <a:br>
              <a:rPr sz="4100"/>
            </a:br>
            <a:r>
              <a:rPr b="0" lang="en-US" sz="4100" spc="-1" strike="noStrike">
                <a:solidFill>
                  <a:srgbClr val="2c7c9f"/>
                </a:solidFill>
                <a:latin typeface="News Gothic MT"/>
              </a:rPr>
              <a:t>Drama In The Classroom</a:t>
            </a:r>
            <a:endParaRPr b="0" lang="en-US" sz="4100" spc="-1" strike="noStrike">
              <a:solidFill>
                <a:srgbClr val="2c7c9f"/>
              </a:solidFill>
              <a:latin typeface="News Gothic MT"/>
            </a:endParaRPr>
          </a:p>
        </p:txBody>
      </p:sp>
      <p:sp>
        <p:nvSpPr>
          <p:cNvPr id="84" name="PlaceHolder 2"/>
          <p:cNvSpPr>
            <a:spLocks noGrp="1"/>
          </p:cNvSpPr>
          <p:nvPr>
            <p:ph type="subTitle"/>
          </p:nvPr>
        </p:nvSpPr>
        <p:spPr>
          <a:xfrm>
            <a:off x="363600" y="4770000"/>
            <a:ext cx="8416800" cy="973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Lauren E. Duerson</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ED-7201</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Fall 2011</a:t>
            </a:r>
            <a:endParaRPr b="0" lang="en-US" sz="2500" spc="-1" strike="noStrike">
              <a:solidFill>
                <a:srgbClr val="595959"/>
              </a:solidFill>
              <a:latin typeface="News Gothic MT"/>
            </a:endParaRPr>
          </a:p>
        </p:txBody>
      </p:sp>
      <p:pic>
        <p:nvPicPr>
          <p:cNvPr id="85" name="Picture Placeholder 5" descr="d1.gif"/>
          <p:cNvPicPr/>
          <p:nvPr/>
        </p:nvPicPr>
        <p:blipFill>
          <a:blip r:embed="rId2"/>
          <a:srcRect l="-52237" t="0" r="-52237" b="0"/>
          <a:stretch/>
        </p:blipFill>
        <p:spPr>
          <a:xfrm>
            <a:off x="371520" y="363600"/>
            <a:ext cx="8400960" cy="2836800"/>
          </a:xfrm>
          <a:prstGeom prst="rect">
            <a:avLst/>
          </a:prstGeom>
          <a:ln w="3240">
            <a:solidFill>
              <a:srgbClr val="ffffff"/>
            </a:solidFill>
            <a:miter/>
          </a:ln>
          <a:effectLst>
            <a:outerShdw dist="153753" dir="2700000" blurRad="0" rotWithShape="0">
              <a:srgbClr val="000000">
                <a:alpha val="50000"/>
              </a:srgbClr>
            </a:outerShdw>
          </a:effectLst>
        </p:spPr>
      </p:pic>
      <p:sp>
        <p:nvSpPr>
          <p:cNvPr id="86" name="TextBox 3"/>
          <p:cNvSpPr/>
          <p:nvPr/>
        </p:nvSpPr>
        <p:spPr>
          <a:xfrm>
            <a:off x="6553080" y="914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12"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Chapman, L. (2005). No child left behind in ar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58(1). 6-1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eorge, N. J. (2000). Beneficial use of dramatics in the classroom.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oodnow, M. (2004). Bringing history to life in the elementary classroom. </a:t>
            </a:r>
            <a:r>
              <a:rPr b="0" i="1" lang="en-US" sz="1400" spc="-1" strike="noStrike">
                <a:solidFill>
                  <a:srgbClr val="595959"/>
                </a:solidFill>
                <a:latin typeface="News Gothic MT"/>
              </a:rPr>
              <a:t>Montessori Life.</a:t>
            </a:r>
            <a:r>
              <a:rPr b="0" lang="en-US" sz="1400" spc="-1" strike="noStrike">
                <a:solidFill>
                  <a:srgbClr val="595959"/>
                </a:solidFill>
                <a:latin typeface="News Gothic MT"/>
              </a:rPr>
              <a:t> 16(3). 34-3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Lynch, P. (2007). Making meaning many ways: an exploratory look at integrating the arts with classroom curriculum.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0(4). 33-38.</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Donoghue, D. (2009). Are we asking the wrong questions in arts-based research?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50(4), 352-268.</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 Shea, D. J. &amp; Stanfa, K. (1998). The play’s the thing for reading comprehension. Teaching Exceptional Children. 31(2), 48-5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sler, B. (2008).  Process drama in one fifth-grade social studies class. </a:t>
            </a:r>
            <a:r>
              <a:rPr b="0" i="1" lang="en-US" sz="1400" spc="-1" strike="noStrike">
                <a:solidFill>
                  <a:srgbClr val="595959"/>
                </a:solidFill>
                <a:latin typeface="News Gothic MT"/>
              </a:rPr>
              <a:t>The Social Studies (Washington D.C.). </a:t>
            </a:r>
            <a:r>
              <a:rPr b="0" lang="en-US" sz="1400" spc="-1" strike="noStrike">
                <a:solidFill>
                  <a:srgbClr val="595959"/>
                </a:solidFill>
                <a:latin typeface="News Gothic MT"/>
              </a:rPr>
              <a:t>99(6), 265-27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anders, J. H. (2006). Performing arts-based education research: an epic drama of practice, precursors, problems, and possibilities.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48(1), 89-107.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14"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Ulbricht, J. (2011). Changing art education’s master narrative.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4(3). 6-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ls, J. S. (2007). Putting the squeeze on social studies: managing teaching dilemmas in subject areas excluded from state testing.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ebsit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oward Gardner: Multiple Intelligences and Education</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Retrieved October 10, 2011. </a:t>
            </a:r>
            <a:r>
              <a:rPr b="0" lang="en-US" sz="1400" spc="-1" strike="noStrike" u="sng">
                <a:solidFill>
                  <a:srgbClr val="7030a0"/>
                </a:solidFill>
                <a:uFillTx/>
                <a:latin typeface="News Gothic MT"/>
                <a:hlinkClick r:id="rId2"/>
              </a:rPr>
              <a:t>http://www.infed.org/thinkers/gardner.htm</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Vygotsky’s Social Development Theory</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Retrieved October 10, 2011. </a:t>
            </a:r>
            <a:r>
              <a:rPr b="0" lang="en-US" sz="1400" spc="-1" strike="noStrike" u="sng">
                <a:solidFill>
                  <a:srgbClr val="7030a0"/>
                </a:solidFill>
                <a:uFillTx/>
                <a:latin typeface="News Gothic MT"/>
                <a:hlinkClick r:id="rId3"/>
              </a:rPr>
              <a:t>http://www.learning-theories.com/vygotskys-social-learning-theory.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able of Contents</a:t>
            </a:r>
            <a:endParaRPr b="0" lang="en-US" sz="4600" spc="-1" strike="noStrike">
              <a:solidFill>
                <a:srgbClr val="2c7c9f"/>
              </a:solidFill>
              <a:latin typeface="News Gothic MT"/>
            </a:endParaRPr>
          </a:p>
        </p:txBody>
      </p:sp>
      <p:sp>
        <p:nvSpPr>
          <p:cNvPr id="88" name=""/>
          <p:cNvSpPr txBox="1"/>
          <p:nvPr/>
        </p:nvSpPr>
        <p:spPr>
          <a:xfrm>
            <a:off x="549000" y="1599840"/>
            <a:ext cx="3840120" cy="4343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tatement of the Problem</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view Of Literatur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Pros</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Cons</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l Theoris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urrent 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ypothesis Statement</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source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89" name="Content Placeholder 7" descr="d3.jpg"/>
          <p:cNvPicPr/>
          <p:nvPr/>
        </p:nvPicPr>
        <p:blipFill>
          <a:blip r:embed="rId2"/>
          <a:srcRect l="0" t="-52571" r="0" b="-52571"/>
          <a:stretch/>
        </p:blipFill>
        <p:spPr>
          <a:xfrm>
            <a:off x="4389480" y="685800"/>
            <a:ext cx="4379760" cy="571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03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tatement of the Problem</a:t>
            </a:r>
            <a:endParaRPr b="0" lang="en-US" sz="4600" spc="-1" strike="noStrike">
              <a:solidFill>
                <a:srgbClr val="2c7c9f"/>
              </a:solidFill>
              <a:latin typeface="News Gothic MT"/>
            </a:endParaRPr>
          </a:p>
        </p:txBody>
      </p:sp>
      <p:sp>
        <p:nvSpPr>
          <p:cNvPr id="91"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Economic recessions create widespread budget cutbacks that greatly effect the public school system.  As a result, job retention and hiring consists of multi-subject and special needs teachers verses those who specialize in the arts such as drama.</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No Child Left Behind Act legislation has created a focus on math and literacy achievement in the United States of America with a goal of general and mass achievement by 2014. </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Testing is the determining factor in student and teacher success. Therefore teachers and administrators are forced to teach to the test with a focus placed on math, science, and literacy.  This means that social studies and the arts are not covered in classrooms in the same detail as the other subjects, if at all.</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3"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the cognitive ability to remember, therefore, by acting in a story or history’s dramatization, children retain and understand more of the story’s concepts and cont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personal self-confidence for teachers and students.  Drama improves social skills between peers and creates communication with teachers and students. Drama can improve physical and emotional abilities through expression and movem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encourages children to question material, create images, determine the importance of details found in the texts, and encourages further inference and synthesis of reading. (Rosler.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4"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6"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such as drama allow children to participate through movement, which is crucial for non-native speaker participation. (Ulbricht. 2011)</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7"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99" name=""/>
          <p:cNvSpPr txBox="1"/>
          <p:nvPr/>
        </p:nvSpPr>
        <p:spPr>
          <a:xfrm>
            <a:off x="549360" y="1371600"/>
            <a:ext cx="8143920" cy="5029200"/>
          </a:xfrm>
          <a:prstGeom prst="rect">
            <a:avLst/>
          </a:prstGeom>
          <a:noFill/>
          <a:ln w="0">
            <a:noFill/>
          </a:ln>
        </p:spPr>
        <p:txBody>
          <a:bodyPr anchor="t">
            <a:normAutofit/>
          </a:bodyPr>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 Child Left Behind Act counts three subjects as ‘core’ subjects, therefore there is no balance between the arts and tested curriculums. Tested subjects always win attention over non-tested. (Chapman. 2005)</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structional time is taken away from the subjects that students are tested on when teacher focus on social studies and the arts.  If test scores drop in other tested curriculum areas, teachers are scrutinized. (Wills. 2007)</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are uncomfortable or unfamiliar with the arts processes, curriculum, and standards, therefore they do not wish to teach learning through dramatic practices. (Stanfa, O Shea. 1998)</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tic presentation and implementation (as well as action research) in the classroom can take more preparation than other subjects of the curriculum. (Sanders. 2006)</a:t>
            </a:r>
            <a:endParaRPr b="0" lang="en-US" sz="2000" spc="-1" strike="noStrike">
              <a:solidFill>
                <a:srgbClr val="595959"/>
              </a:solidFill>
              <a:latin typeface="News Gothic MT"/>
            </a:endParaRPr>
          </a:p>
        </p:txBody>
      </p:sp>
      <p:pic>
        <p:nvPicPr>
          <p:cNvPr id="100"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ducational Theorists</a:t>
            </a:r>
            <a:endParaRPr b="0" lang="en-US" sz="4600" spc="-1" strike="noStrike">
              <a:solidFill>
                <a:srgbClr val="2c7c9f"/>
              </a:solidFill>
              <a:latin typeface="News Gothic MT"/>
            </a:endParaRPr>
          </a:p>
        </p:txBody>
      </p:sp>
      <p:sp>
        <p:nvSpPr>
          <p:cNvPr id="102"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Lev Vygotsky:</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cial interaction plays a large role in cognitive development. Only once social interaction has occurred can an individual understand on a personal level. </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eachers should collaborate with the students to help facilitate meaning and learning.</a:t>
            </a:r>
            <a:endParaRPr b="0" lang="en-US" sz="20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Howard Gardne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ultiple intelligences includes bodily-kinesthetic intelligence, where entire body is used to solve problems in the process of learning.</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terpersonal and Intrapersonal intelligence, which includes understanding one’s own motivations and the motivations of others in the process of learning.</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urrent Implementation</a:t>
            </a:r>
            <a:endParaRPr b="0" lang="en-US" sz="4600" spc="-1" strike="noStrike">
              <a:solidFill>
                <a:srgbClr val="2c7c9f"/>
              </a:solidFill>
              <a:latin typeface="News Gothic MT"/>
            </a:endParaRPr>
          </a:p>
        </p:txBody>
      </p:sp>
      <p:sp>
        <p:nvSpPr>
          <p:cNvPr id="10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rgaret Goodnow- Has students choose a civilization in order to create a play. ‘The Golden Apple’ was utilized to socially have students find cooperative solutions to problems while learning about other cultures and historic peopl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enda Rosler- Fifth-grade teacher in an urban community found that drama infused lesson plans unite classes, and create leaders in social studies learn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ypothesis</a:t>
            </a:r>
            <a:endParaRPr b="0" lang="en-US" sz="4600" spc="-1" strike="noStrike">
              <a:solidFill>
                <a:srgbClr val="2c7c9f"/>
              </a:solidFill>
              <a:latin typeface="News Gothic MT"/>
            </a:endParaRPr>
          </a:p>
        </p:txBody>
      </p:sp>
      <p:sp>
        <p:nvSpPr>
          <p:cNvPr id="106" name="PlaceHolder 2"/>
          <p:cNvSpPr>
            <a:spLocks noGrp="1"/>
          </p:cNvSpPr>
          <p:nvPr>
            <p:ph/>
          </p:nvPr>
        </p:nvSpPr>
        <p:spPr>
          <a:xfrm>
            <a:off x="54900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sp>
        <p:nvSpPr>
          <p:cNvPr id="107" name=""/>
          <p:cNvSpPr txBox="1"/>
          <p:nvPr/>
        </p:nvSpPr>
        <p:spPr>
          <a:xfrm>
            <a:off x="228240" y="1444320"/>
            <a:ext cx="4522680" cy="4491000"/>
          </a:xfrm>
          <a:prstGeom prst="rect">
            <a:avLst/>
          </a:prstGeom>
          <a:noFill/>
          <a:ln w="0">
            <a:noFill/>
          </a:ln>
        </p:spPr>
        <p:txBody>
          <a:bodyPr anchor="t">
            <a:normAutofit/>
          </a:bodyPr>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	</a:t>
            </a:r>
            <a:endParaRPr b="0" lang="en-US" sz="2000" spc="-1" strike="noStrike">
              <a:solidFill>
                <a:srgbClr val="595959"/>
              </a:solidFill>
              <a:latin typeface="News Gothic MT"/>
            </a:endParaRPr>
          </a:p>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By integrating dramatic role-playing activities within social studies lessons over a six-week period of time to twenty-eight students at Public School X in Brooklyn, New York, students will increase test scores in the social sciences curriculum.</a:t>
            </a:r>
            <a:endParaRPr b="0" lang="en-US" sz="24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3"/>
          <p:cNvSpPr>
            <a:spLocks noGrp="1"/>
          </p:cNvSpPr>
          <p:nvPr>
            <p:ph/>
          </p:nvPr>
        </p:nvSpPr>
        <p:spPr>
          <a:xfrm>
            <a:off x="475092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pic>
        <p:nvPicPr>
          <p:cNvPr id="109" name="Content Placeholder 6" descr="d4.jpg"/>
          <p:cNvPicPr/>
          <p:nvPr/>
        </p:nvPicPr>
        <p:blipFill>
          <a:blip r:embed="rId2"/>
          <a:srcRect l="0" t="-20337" r="0" b="-20337"/>
          <a:stretch/>
        </p:blipFill>
        <p:spPr>
          <a:xfrm>
            <a:off x="5638680" y="1444680"/>
            <a:ext cx="2659320" cy="2490840"/>
          </a:xfrm>
          <a:prstGeom prst="rect">
            <a:avLst/>
          </a:prstGeom>
          <a:ln w="0">
            <a:noFill/>
          </a:ln>
        </p:spPr>
      </p:pic>
      <p:pic>
        <p:nvPicPr>
          <p:cNvPr id="110" name="Picture 7" descr="test.jpg"/>
          <p:cNvPicPr/>
          <p:nvPr/>
        </p:nvPicPr>
        <p:blipFill>
          <a:blip r:embed="rId3"/>
          <a:stretch/>
        </p:blipFill>
        <p:spPr>
          <a:xfrm>
            <a:off x="511344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21:47:15Z</dcterms:created>
  <dc:creator>Lauren Duerson</dc:creator>
  <dc:description/>
  <dc:language>en-US</dc:language>
  <cp:lastModifiedBy>Lauren Duerson</cp:lastModifiedBy>
  <dcterms:modified xsi:type="dcterms:W3CDTF">2011-10-18T10:56:09Z</dcterms:modified>
  <cp:revision>4</cp:revision>
  <dc:subject/>
  <dc:title>To Act, Or Not To Act? Drama In The Classroom</dc:title>
</cp:coreProperties>
</file>